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7.gif" ContentType="image/gif"/>
  <Override PartName="/ppt/media/image36.jpeg" ContentType="image/jpeg"/>
  <Override PartName="/ppt/media/image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38.jpeg" ContentType="image/jpeg"/>
  <Override PartName="/ppt/media/image16.jpeg" ContentType="image/jpeg"/>
  <Override PartName="/ppt/media/image6.jpeg" ContentType="image/jpeg"/>
  <Override PartName="/ppt/media/type.wav" ContentType="audio/x-wav"/>
  <Override PartName="/ppt/media/image3.png" ContentType="image/png"/>
  <Override PartName="/ppt/media/image17.jpeg" ContentType="image/jpeg"/>
  <Override PartName="/ppt/media/image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8931275" cy="6858000"/>
  <p:notesSz cx="6858000" cy="9144000"/>
  <p:custShowLst>
    <p:custShow name="自定义放映 1" id="0">
      <p:sldLst>
        <p:sld r:id="rId2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60D-79E2-4BA0-9FEB-00B531ED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58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9600" y="4130640"/>
            <a:ext cx="758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E64-5369-44D0-8C27-35065761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370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8680" y="1981080"/>
            <a:ext cx="370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130640"/>
            <a:ext cx="370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8680" y="4130640"/>
            <a:ext cx="370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CE8-387A-41F9-9BA8-B5BB862F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24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981080"/>
            <a:ext cx="24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2120" y="1981080"/>
            <a:ext cx="24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9600" y="4130640"/>
            <a:ext cx="24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4130640"/>
            <a:ext cx="24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2120" y="4130640"/>
            <a:ext cx="24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26D-DD4E-4BE0-844F-8D71C802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960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D60-A785-44C8-83FB-37C67FF1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90D-9D04-4349-A9D9-D8F7BE64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868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E17-AF82-45DC-98C0-3F817FC6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CA9-2A63-46C6-BC49-99FAAFC6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9600" y="609120"/>
            <a:ext cx="758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207-25E9-4076-8B4A-238D6822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370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868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9600" y="4130640"/>
            <a:ext cx="370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84A-2445-443F-88E0-48FE12E6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8680" y="1981080"/>
            <a:ext cx="370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8680" y="4130640"/>
            <a:ext cx="370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ECC-A415-4D5E-BB98-948BBB22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370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8680" y="1981080"/>
            <a:ext cx="370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9600" y="4130640"/>
            <a:ext cx="758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5A1-199F-4ABA-94E5-2AAAD12C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960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9960" y="6248520"/>
            <a:ext cx="18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1000" y="6248520"/>
            <a:ext cx="282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85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E2C3-AEB1-4AAC-8BDE-B9F522272AF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pload__48392600_1230d453ac6__8000_00000136"/>
          <p:cNvPicPr/>
          <p:nvPr/>
        </p:nvPicPr>
        <p:blipFill>
          <a:blip r:embed="rId1"/>
          <a:stretch/>
        </p:blipFill>
        <p:spPr>
          <a:xfrm>
            <a:off x="0" y="-15840"/>
            <a:ext cx="892980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423440" y="1125360"/>
            <a:ext cx="559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ffff"/>
                </a:solidFill>
                <a:latin typeface="楷体"/>
                <a:ea typeface="楷体"/>
              </a:rPr>
              <a:t>4.</a:t>
            </a:r>
            <a:r>
              <a:rPr b="1" lang="zh-CN" sz="9600" spc="-1" strike="noStrike">
                <a:solidFill>
                  <a:srgbClr val="00ffff"/>
                </a:solidFill>
                <a:latin typeface="楷体"/>
                <a:ea typeface="楷体"/>
              </a:rPr>
              <a:t>火 烧 云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6117120" y="3068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楷体"/>
              </a:rPr>
              <a:t>萧红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413000"/>
            <a:ext cx="89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自由朗读第</a:t>
            </a:r>
            <a:r>
              <a:rPr b="1" lang="en-US" sz="48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自然段，画出有关火烧云颜色的词语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5125d9b99f234"/>
          <p:cNvPicPr/>
          <p:nvPr/>
        </p:nvPicPr>
        <p:blipFill>
          <a:blip r:embed="rId1"/>
          <a:stretch/>
        </p:blipFill>
        <p:spPr>
          <a:xfrm>
            <a:off x="3240" y="-19080"/>
            <a:ext cx="8929800" cy="6905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红0"/>
          <p:cNvPicPr/>
          <p:nvPr/>
        </p:nvPicPr>
        <p:blipFill>
          <a:blip r:embed="rId2"/>
          <a:stretch/>
        </p:blipFill>
        <p:spPr>
          <a:xfrm>
            <a:off x="1440" y="144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988920" y="1509840"/>
            <a:ext cx="387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00"/>
                </a:solidFill>
                <a:latin typeface="Arial"/>
                <a:ea typeface="隶书"/>
              </a:rPr>
              <a:t>红 彤 彤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upload__48392600_1230d453ac6__8000_00000136"/>
          <p:cNvPicPr/>
          <p:nvPr/>
        </p:nvPicPr>
        <p:blipFill>
          <a:blip r:embed="rId1"/>
          <a:stretch/>
        </p:blipFill>
        <p:spPr>
          <a:xfrm>
            <a:off x="0" y="46080"/>
            <a:ext cx="8929800" cy="6811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73080" y="5734080"/>
            <a:ext cx="346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金 灿 灿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半紫半黄6"/>
          <p:cNvPicPr/>
          <p:nvPr/>
        </p:nvPicPr>
        <p:blipFill>
          <a:blip r:embed="rId1"/>
          <a:stretch/>
        </p:blipFill>
        <p:spPr>
          <a:xfrm>
            <a:off x="1440" y="-19080"/>
            <a:ext cx="8945640" cy="6905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6480720" y="333360"/>
            <a:ext cx="2009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a50aa"/>
                </a:solidFill>
                <a:latin typeface="Times New Roman"/>
                <a:ea typeface="黑体"/>
              </a:rPr>
              <a:t>半紫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半黄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半灰半百合2"/>
          <p:cNvPicPr/>
          <p:nvPr/>
        </p:nvPicPr>
        <p:blipFill>
          <a:blip r:embed="rId1"/>
          <a:stretch/>
        </p:blipFill>
        <p:spPr>
          <a:xfrm>
            <a:off x="1440" y="1440"/>
            <a:ext cx="8929800" cy="6885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928480" y="561960"/>
            <a:ext cx="18262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Times New Roman"/>
                <a:ea typeface="黑体"/>
              </a:rPr>
              <a:t>半灰半百合色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4123307_1348553102315"/>
          <p:cNvPicPr/>
          <p:nvPr/>
        </p:nvPicPr>
        <p:blipFill>
          <a:blip r:embed="rId1"/>
          <a:stretch/>
        </p:blipFill>
        <p:spPr>
          <a:xfrm>
            <a:off x="1440" y="-17640"/>
            <a:ext cx="8929800" cy="687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504720" y="620640"/>
            <a:ext cx="34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葡萄灰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7" descr="2009820135040733"/>
          <p:cNvPicPr/>
          <p:nvPr/>
        </p:nvPicPr>
        <p:blipFill>
          <a:blip r:embed="rId2"/>
          <a:stretch/>
        </p:blipFill>
        <p:spPr>
          <a:xfrm>
            <a:off x="5761080" y="2997360"/>
            <a:ext cx="31464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6434280" y="2708280"/>
            <a:ext cx="225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梨黄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紫色a54"/>
          <p:cNvPicPr/>
          <p:nvPr/>
        </p:nvPicPr>
        <p:blipFill>
          <a:blip r:embed="rId1"/>
          <a:stretch/>
        </p:blipFill>
        <p:spPr>
          <a:xfrm>
            <a:off x="1440" y="-19080"/>
            <a:ext cx="8929800" cy="6905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3600360" y="1628640"/>
            <a:ext cx="428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茄 子 紫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你们找全了吗？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47880" y="2550960"/>
            <a:ext cx="577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红彤彤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金灿灿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ca50aa"/>
                </a:solidFill>
                <a:latin typeface="黑体"/>
                <a:ea typeface="黑体"/>
              </a:rPr>
              <a:t>半紫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半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半灰半百合色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969696"/>
                </a:solidFill>
                <a:latin typeface="黑体"/>
                <a:ea typeface="黑体"/>
              </a:rPr>
              <a:t>葡萄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梨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d32fa0"/>
                </a:solidFill>
                <a:latin typeface="黑体"/>
                <a:ea typeface="黑体"/>
              </a:rPr>
              <a:t>茄子紫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7" descr="b8abca105d0f6c466d5bee7e00c1881c.jpg"/>
          <p:cNvPicPr/>
          <p:nvPr/>
        </p:nvPicPr>
        <p:blipFill>
          <a:blip r:embed="rId1"/>
          <a:stretch/>
        </p:blipFill>
        <p:spPr>
          <a:xfrm rot="1830600">
            <a:off x="3561840" y="2680920"/>
            <a:ext cx="2787840" cy="3727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0360" y="14839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如果表示颜色的词语是一个个糖葫芦，那你能找一个词做竹签，把他们全串起来吗？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69600" y="1981080"/>
            <a:ext cx="7589880" cy="4114800"/>
          </a:xfrm>
          <a:prstGeom prst="rect">
            <a:avLst/>
          </a:prstGeom>
          <a:ln w="0">
            <a:noFill/>
          </a:ln>
        </p:spPr>
      </p:pic>
    </p:spTree>
  </p:cSld>
  <p:transition spd="med" advTm="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0360" y="2113920"/>
            <a:ext cx="8209080" cy="2865240"/>
          </a:xfrm>
          <a:prstGeom prst="rect">
            <a:avLst/>
          </a:prstGeom>
          <a:solidFill>
            <a:srgbClr val="fefe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火烧云是怎样形成的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清晨，太阳刚刚出来的时候，或者傍晚太阳落山的时候，天边的云彩常常是通红的一片，像火烧的一样。人们把这种通红的云，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火烧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又叫早霞或晚霞。有时候，没有云，天边也会出现火红的颜色，这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火烧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火烧云的形成与太阳光的颜色有着很大的关系，我们看到早晚的太阳发红，其它时间的太阳白黄刺眼，实际上太阳光既不是白色的，也不是红色的，而是由红、橙、黄、绿、青、蓝、紫七色光混合成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火烧云可以预测天气，民间流传的谚语“早霞不出门，晚霞行千里”，就是说，火烧云或火烧天如果出现在早晨，天气可能会变坏，出现在傍晚，第二天准是个好天气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3" descr="2012011411141838"/>
          <p:cNvPicPr/>
          <p:nvPr/>
        </p:nvPicPr>
        <p:blipFill>
          <a:blip r:embed="rId2"/>
          <a:stretch/>
        </p:blipFill>
        <p:spPr>
          <a:xfrm>
            <a:off x="1440" y="-20520"/>
            <a:ext cx="8928360" cy="6878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771200" y="549360"/>
            <a:ext cx="57646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什么是火烧云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清晨，太阳刚刚出来的时候，或者傍晚太阳落山的时候，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的云彩常常是通红的一片，像火烧的一样。人们把这种通红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云，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火烧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又叫早霞或晚霞。有时候，没有云，天边也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现火红的颜色，这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火烧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火烧云可以预测天气，民间流传的谚语“早霞不出门，晚霞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里”，就是说，火烧云或火烧天如果出现在早晨，天气可能会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坏，出现在傍晚，第二天准是个好天气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347017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4002840" y="9079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请你用一个词概括火烧云的颜色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019400" y="1905120"/>
            <a:ext cx="9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五颜六色、绚丽多彩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色彩缤纷、色彩斑斓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84200" y="31129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7956259_204721542000_2"/>
          <p:cNvPicPr/>
          <p:nvPr/>
        </p:nvPicPr>
        <p:blipFill>
          <a:blip r:embed="rId2"/>
          <a:stretch/>
        </p:blipFill>
        <p:spPr>
          <a:xfrm>
            <a:off x="1440" y="46080"/>
            <a:ext cx="8929800" cy="68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96520" y="4762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imes New Roman"/>
              </a:rPr>
              <a:t>读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</a:rPr>
              <a:t>4—6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</a:rPr>
              <a:t>自然段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893960" y="2925720"/>
            <a:ext cx="467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找一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4---6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段写了火烧云哪些形状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如何变化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YW00039"/>
          <p:cNvPicPr/>
          <p:nvPr/>
        </p:nvPicPr>
        <p:blipFill>
          <a:blip r:embed="rId1"/>
          <a:stretch/>
        </p:blipFill>
        <p:spPr>
          <a:xfrm>
            <a:off x="0" y="0"/>
            <a:ext cx="8929800" cy="8182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51760" y="292428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"/>
              </a:rPr>
              <a:t>一会儿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"/>
              </a:rPr>
              <a:t>，天空出现一匹马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upload__1ccbab45_11b59b968e2__7ffb_00001275"/>
          <p:cNvPicPr/>
          <p:nvPr/>
        </p:nvPicPr>
        <p:blipFill>
          <a:blip r:embed="rId1"/>
          <a:stretch/>
        </p:blipFill>
        <p:spPr>
          <a:xfrm>
            <a:off x="0" y="-19080"/>
            <a:ext cx="8931240" cy="6850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2979-1109210RT547-lp_副本"/>
          <p:cNvPicPr/>
          <p:nvPr/>
        </p:nvPicPr>
        <p:blipFill>
          <a:blip r:embed="rId2"/>
          <a:stretch/>
        </p:blipFill>
        <p:spPr>
          <a:xfrm>
            <a:off x="3529080" y="3789360"/>
            <a:ext cx="4824360" cy="3470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787320" y="1908000"/>
            <a:ext cx="10033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"/>
              </a:rPr>
              <a:t>忽然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"/>
              </a:rPr>
              <a:t>，又来了一条大狗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upload__1ccbab45_11b59b968e2__7ffb_00001277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597600" y="2815560"/>
            <a:ext cx="23439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"/>
              </a:rPr>
              <a:t>又来了一头大狮子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"/>
              </a:rPr>
              <a:t>接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9885883_190910494000_2"/>
          <p:cNvPicPr/>
          <p:nvPr/>
        </p:nvPicPr>
        <p:blipFill>
          <a:blip r:embed="rId2"/>
          <a:stretch/>
        </p:blipFill>
        <p:spPr>
          <a:xfrm>
            <a:off x="5113440" y="3718080"/>
            <a:ext cx="3165480" cy="3095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4074480" y="54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想象一下，火烧云还能变成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3677487580327_jpeg!700x0"/>
          <p:cNvPicPr/>
          <p:nvPr/>
        </p:nvPicPr>
        <p:blipFill>
          <a:blip r:embed="rId1"/>
          <a:stretch/>
        </p:blipFill>
        <p:spPr>
          <a:xfrm>
            <a:off x="1440" y="-103320"/>
            <a:ext cx="8929800" cy="69534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8" descr="狗上升~1_副本"/>
          <p:cNvPicPr/>
          <p:nvPr/>
        </p:nvPicPr>
        <p:blipFill>
          <a:blip r:embed="rId2"/>
          <a:stretch/>
        </p:blipFill>
        <p:spPr>
          <a:xfrm>
            <a:off x="0" y="2492280"/>
            <a:ext cx="4995720" cy="4559400"/>
          </a:xfrm>
          <a:prstGeom prst="rect">
            <a:avLst/>
          </a:prstGeom>
          <a:ln w="0">
            <a:noFill/>
          </a:ln>
        </p:spPr>
      </p:pic>
    </p:spTree>
  </p:cSld>
  <p:transition spd="med" advTm="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12936850_193252395127_2"/>
          <p:cNvPicPr/>
          <p:nvPr/>
        </p:nvPicPr>
        <p:blipFill>
          <a:blip r:embed="rId1"/>
          <a:stretch/>
        </p:blipFill>
        <p:spPr>
          <a:xfrm>
            <a:off x="1440" y="0"/>
            <a:ext cx="8929800" cy="6813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7835090_155215584102_2"/>
          <p:cNvPicPr/>
          <p:nvPr/>
        </p:nvPicPr>
        <p:blipFill>
          <a:blip r:embed="rId2"/>
          <a:stretch/>
        </p:blipFill>
        <p:spPr>
          <a:xfrm>
            <a:off x="73080" y="4149720"/>
            <a:ext cx="4719600" cy="26449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6"/>
          <p:cNvGrpSpPr/>
          <p:nvPr/>
        </p:nvGrpSpPr>
        <p:grpSpPr>
          <a:xfrm>
            <a:off x="7632720" y="6381720"/>
            <a:ext cx="1297080" cy="439920"/>
            <a:chOff x="7632720" y="6381720"/>
            <a:chExt cx="1297080" cy="439920"/>
          </a:xfrm>
        </p:grpSpPr>
        <p:sp>
          <p:nvSpPr>
            <p:cNvPr id="144" name="Rectangle 7"/>
            <p:cNvSpPr/>
            <p:nvPr/>
          </p:nvSpPr>
          <p:spPr>
            <a:xfrm>
              <a:off x="7632720" y="6381720"/>
              <a:ext cx="1297080" cy="431640"/>
            </a:xfrm>
            <a:prstGeom prst="rect">
              <a:avLst/>
            </a:prstGeom>
            <a:gradFill rotWithShape="0">
              <a:gsLst>
                <a:gs pos="0">
                  <a:srgbClr val="00ffff">
                    <a:alpha val="91372"/>
                  </a:srgbClr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8"/>
            <p:cNvSpPr/>
            <p:nvPr/>
          </p:nvSpPr>
          <p:spPr>
            <a:xfrm>
              <a:off x="7862760" y="6453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imes New Roman"/>
                  <a:ea typeface="楷体"/>
                </a:rPr>
                <a:t>樱桃园小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6" name="Picture 9" descr="bd3eb13533fa828b1e735f0dfc1f4134960a5a88"/>
          <p:cNvPicPr/>
          <p:nvPr/>
        </p:nvPicPr>
        <p:blipFill>
          <a:blip r:embed="rId3"/>
          <a:stretch/>
        </p:blipFill>
        <p:spPr>
          <a:xfrm>
            <a:off x="7129440" y="4640400"/>
            <a:ext cx="1782720" cy="2133360"/>
          </a:xfrm>
          <a:prstGeom prst="rect">
            <a:avLst/>
          </a:prstGeom>
          <a:ln w="0">
            <a:noFill/>
          </a:ln>
        </p:spPr>
      </p:pic>
    </p:spTree>
  </p:cSld>
  <p:transition spd="med" advTm="0">
    <p:zoom dir="ou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347017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817280" y="907920"/>
            <a:ext cx="45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火烧云形状的变化是这样多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这样快，你能用一个成语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概括吗？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449520" y="334008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变化多端、千姿百态、形态各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84200" y="31129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16000" y="933480"/>
            <a:ext cx="1254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时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恍恍惚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，天空里又像这个又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个，其实什么也不像，什么也看不清了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必须低下头，揉一揉眼睛，沉静一会儿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看。可是天空偏偏不等待那些爱好它的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子。一会儿工夫，火烧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下去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403088"/>
          <p:cNvPicPr/>
          <p:nvPr/>
        </p:nvPicPr>
        <p:blipFill>
          <a:blip r:embed="rId1"/>
          <a:stretch/>
        </p:blipFill>
        <p:spPr>
          <a:xfrm>
            <a:off x="0" y="0"/>
            <a:ext cx="893124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13984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77800" y="1628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火烧云这篇课文，按照“上来了、变化着、下去了”这样的时间顺序，着重写了颜色和形状的变化。火烧云上来时作者主要是抓住霞光下的静态景象来写的，火烧云的变化，作者主要是抓住颜色形状的动态变化来写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静结合，写得多美丽，写得多生动啊，把我们带到了一个童话般的境界之中。希望同学们能认真体会作者观察之细致，想象之丰富，写法之巧妙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60520" y="476280"/>
            <a:ext cx="18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微软雅黑"/>
              </a:rPr>
              <a:t>总结提高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-130430201AT41"/>
          <p:cNvPicPr/>
          <p:nvPr/>
        </p:nvPicPr>
        <p:blipFill>
          <a:blip r:embed="rId2"/>
          <a:stretch/>
        </p:blipFill>
        <p:spPr>
          <a:xfrm>
            <a:off x="1440" y="44280"/>
            <a:ext cx="8929800" cy="6842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62028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生字查一查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09320" y="2421000"/>
            <a:ext cx="49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檀（    ）  盈（    ）  凶（   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7760" y="4005360"/>
            <a:ext cx="53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庙（        ）    惚（             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512720" y="2556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紫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4575240" y="198900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笑盈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7634880" y="20606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678680" y="357336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庙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867200" y="357336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恍恍惚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at"/>
          <p:cNvPicPr/>
          <p:nvPr/>
        </p:nvPicPr>
        <p:blipFill>
          <a:blip r:embed="rId1"/>
          <a:stretch/>
        </p:blipFill>
        <p:spPr>
          <a:xfrm>
            <a:off x="738360" y="333360"/>
            <a:ext cx="1265040" cy="22860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2752560" y="228600"/>
            <a:ext cx="4316400" cy="1371600"/>
          </a:xfrm>
          <a:prstGeom prst="wedgeEllipseCallout">
            <a:avLst>
              <a:gd name="adj1" fmla="val -60129"/>
              <a:gd name="adj2" fmla="val 42245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行吗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74600" y="249228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请用不同的形式填写表示颜色的词语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57200" y="3500280"/>
            <a:ext cx="8086680" cy="243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红彤彤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__ __ __         __ __ 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半紫半黄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 __ __         __ __ __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葡萄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__ __ __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 __ __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17080" y="1773000"/>
            <a:ext cx="758988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反复朗读文章，然后用水彩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画出你心中的火烧云的颜色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状并仿照课文进行描述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199160" y="3333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"/>
              </a:rPr>
              <a:t>大显身手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20120722150919_KYCvN"/>
          <p:cNvPicPr/>
          <p:nvPr/>
        </p:nvPicPr>
        <p:blipFill>
          <a:blip r:embed="rId1"/>
          <a:stretch/>
        </p:blipFill>
        <p:spPr>
          <a:xfrm>
            <a:off x="1440" y="-88920"/>
            <a:ext cx="8929800" cy="6904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761360" y="186048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ffff"/>
                </a:solidFill>
                <a:latin typeface="Times New Roman"/>
                <a:ea typeface="楷体"/>
              </a:rPr>
              <a:t>谢谢！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12011411141838"/>
          <p:cNvPicPr/>
          <p:nvPr/>
        </p:nvPicPr>
        <p:blipFill>
          <a:blip r:embed="rId2"/>
          <a:stretch/>
        </p:blipFill>
        <p:spPr>
          <a:xfrm>
            <a:off x="3240" y="0"/>
            <a:ext cx="8928000" cy="6813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16080" y="1182600"/>
            <a:ext cx="861372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华文行楷"/>
                <a:ea typeface="华文行楷"/>
              </a:rPr>
              <a:t>必学生词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火烧云  紫檀 笑盈盈  高寿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红彤彤  百合  茄子紫  跪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模糊   凶猛  镇静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"/>
              </a:rPr>
              <a:t>揉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初读课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思考（小组交流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作者是按照什么顺序描写火烧云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友情提示：想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观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写作顺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4893"/>
          <p:cNvPicPr/>
          <p:nvPr/>
        </p:nvPicPr>
        <p:blipFill>
          <a:blip r:embed="rId2"/>
          <a:stretch/>
        </p:blipFill>
        <p:spPr>
          <a:xfrm>
            <a:off x="1440" y="-19080"/>
            <a:ext cx="89298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628200"/>
            <a:ext cx="7589880" cy="13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e7e7"/>
                </a:solidFill>
                <a:latin typeface="Times New Roman"/>
                <a:ea typeface="华文行楷"/>
              </a:rPr>
              <a:t>课文按照什么顺序描绘火烧云的？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498320" y="2492280"/>
            <a:ext cx="58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微软雅黑"/>
                <a:ea typeface="微软雅黑"/>
              </a:rPr>
              <a:t>火烧云上来了——变化——火烧云下去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7632720" y="6381720"/>
            <a:ext cx="1297080" cy="439920"/>
            <a:chOff x="7632720" y="6381720"/>
            <a:chExt cx="1297080" cy="439920"/>
          </a:xfrm>
        </p:grpSpPr>
        <p:sp>
          <p:nvSpPr>
            <p:cNvPr id="64" name="Rectangle 3"/>
            <p:cNvSpPr/>
            <p:nvPr/>
          </p:nvSpPr>
          <p:spPr>
            <a:xfrm>
              <a:off x="7632720" y="6381720"/>
              <a:ext cx="1297080" cy="431640"/>
            </a:xfrm>
            <a:prstGeom prst="rect">
              <a:avLst/>
            </a:prstGeom>
            <a:gradFill rotWithShape="0">
              <a:gsLst>
                <a:gs pos="0">
                  <a:srgbClr val="00ffff">
                    <a:alpha val="91372"/>
                  </a:srgbClr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7862760" y="6453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imes New Roman"/>
                  <a:ea typeface="楷体"/>
                </a:rPr>
                <a:t>樱桃园小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Rectangle 5"/>
          <p:cNvSpPr/>
          <p:nvPr/>
        </p:nvSpPr>
        <p:spPr>
          <a:xfrm>
            <a:off x="4968720" y="1413000"/>
            <a:ext cx="3961080" cy="40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6121440" y="1486080"/>
            <a:ext cx="504720" cy="50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Oval 7"/>
          <p:cNvSpPr/>
          <p:nvPr/>
        </p:nvSpPr>
        <p:spPr>
          <a:xfrm>
            <a:off x="7848720" y="2133720"/>
            <a:ext cx="504720" cy="503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6121440" y="3502080"/>
            <a:ext cx="504720" cy="503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9" descr="YW00039"/>
          <p:cNvPicPr/>
          <p:nvPr/>
        </p:nvPicPr>
        <p:blipFill>
          <a:blip r:embed="rId1"/>
          <a:stretch/>
        </p:blipFill>
        <p:spPr>
          <a:xfrm>
            <a:off x="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3637080" y="7570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6457680" y="549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红红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7554960" y="16765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7498080" y="1341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红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5985360" y="2637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金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400720" y="386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紫檀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674400" y="4581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金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7394040" y="59500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金胡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006880" y="38638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859280" y="0"/>
            <a:ext cx="407052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霞光照得小孩子脸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大白狗变成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＿ 了．红公鸡变成  ＿了＿．  黑母鸡变成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＿   ＿的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小白猪变成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＿＿  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老爷爷的胡子变成＿＿了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3" descr="4_04780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60" y="-360"/>
            <a:ext cx="87058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上的云从西边一直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烧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到东边，红彤彤的，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好像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天空着了火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47640" y="2708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这段话这样表达的好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487240" y="386064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动形象体现出火烧云跟火类似的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红、蔓延、面积大、速度快、不断变幻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金灿灿"/>
          <p:cNvPicPr/>
          <p:nvPr/>
        </p:nvPicPr>
        <p:blipFill>
          <a:blip r:embed="rId1"/>
          <a:stretch/>
        </p:blipFill>
        <p:spPr>
          <a:xfrm>
            <a:off x="0" y="0"/>
            <a:ext cx="8931240" cy="6777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600" y="6091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720" y="141300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颜色  形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49440" y="620640"/>
            <a:ext cx="75895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快速阅读第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-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自然段看看作者从哪两个方面写了火烧云的变化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1:36:19Z</dcterms:created>
  <dc:creator>S君</dc:creator>
  <dc:description>淘课件网 http://www.taokejian.com</dc:description>
  <cp:keywords/>
  <dc:language>en-US</dc:language>
  <cp:lastModifiedBy>zhangchangwen</cp:lastModifiedBy>
  <dcterms:modified xsi:type="dcterms:W3CDTF">2016-09-07T16:32:39Z</dcterms:modified>
  <cp:revision>90</cp:revision>
  <dc:subject/>
  <dc:title>淘课件网 http://www.tao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